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DBD21-9904-4DA1-91FF-6DC5553C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D1DA8-4CF7-4FD5-8C04-F4D8DCC7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AC628-8A77-4740-9A10-4910966F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0ADED-8D39-45A6-B643-4059BFFB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E963-2A86-408F-86F6-84D66102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DA86-CBA0-44B9-BB81-825E314E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BD7A-A8EF-4BB7-A42A-137997CF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EE46-4153-4D18-AE0C-E64B45A3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27B8-126F-4326-9F96-9DF83249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1F0B-B57B-4ED7-BDCC-4FB97A77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D023-C4F4-46DD-AD35-BE5810E9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B2A8C-4BCF-4866-A98A-E51B510E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F569-EFBD-4670-9AD4-ED8426F0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4402-D729-4188-ADC4-6DCAD51A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CDA8-B4AD-412E-A77C-7A8EB86B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AAA9-2D2F-4A57-AF99-8D81904B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1BAE-F626-4A1D-BABF-EA15D4BE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090D3-066D-4DF8-84D9-A670342E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59A13-ED11-49A8-BF0F-86173A98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D21B8-12F5-4DD9-B944-6566309F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39103-3CA5-46E4-A7D7-9BD6FCC3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CC9C9-88AC-4946-81BB-69871BB9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6ACD7-9FFD-4D29-A1A7-190A8CFF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F0063-A32F-4FE6-9A61-82D32281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5EF6-BDE7-4A97-97D4-C00ACF3820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B24E-398A-43F0-99C0-E185379F84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6e3aa"/>
                </a:solidFill>
                <a:latin typeface="Book Antiqua"/>
              </a:rPr>
              <a:t>Mormon Pioneers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Book Antiqua"/>
              </a:rPr>
              <a:t>Who are the Mormons?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embers of The Church of Jesus Christ of Latter-day Sai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tarted in 1830 and lead by Joseph Smith J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Joseph Smith brought forth Book of Morm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ersecuted for unique religious belief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lace they lived before coming to Uta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almyra, New Yor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irtland Ohi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dependence, Missour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Governor Boggs gave the extermination ord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auvoo, Illino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ormons asked U.S. government to take action, but were refuse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Joseph Smith killed and Brigham Young takes his pl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ormons are forced out of Nauvo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Book Antiqua"/>
              </a:rPr>
              <a:t>The Trek Wes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pent the winter in Iowa at Winters Quar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US government asked the Mormons to help them fight the Mexicans, the group that helped them was called the Mormon Battal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Book Antiqua"/>
              </a:rPr>
              <a:t>The Advance Party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re was a group that left first to help those who were to come b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t up fo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eft descriptions of the trai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ear path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rived in the valley on July 22, 18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Book Antiqua"/>
              </a:rPr>
              <a:t>Life on trail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ong tedious d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eople often got sick from sanitation conditions and nutritional deficienc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ccident often occur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etter than most going to Oregon Trai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ixed emotions about where they were settl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1:52:07Z</dcterms:created>
  <dc:creator>James Fife</dc:creator>
  <dc:description/>
  <dc:language>en-US</dc:language>
  <cp:lastModifiedBy>student</cp:lastModifiedBy>
  <dcterms:modified xsi:type="dcterms:W3CDTF">2009-03-16T14:51:58Z</dcterms:modified>
  <cp:revision>3</cp:revision>
  <dc:subject/>
  <dc:title>Mormon Pioneers</dc:title>
</cp:coreProperties>
</file>